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6F4-D2AA-4DAD-AE19-5B3A1CF7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DD7-A681-4427-AC40-1D69D8F3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6F9-FA56-44B4-88A5-DB32E651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8AE-6C35-4DFA-AF50-8F46611D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82B-0BB4-441A-A654-F0A37C35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196-32E1-443F-B8E3-481EBC82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6C42-444F-447A-A893-932CB051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AE4-3F72-4CDE-83CC-4BB26C34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AD6-EF20-4108-8039-BDE022FE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4FD-746B-481C-A8CA-BAFC84F0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416-0297-44AC-A37D-304DFAFA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FFB-5688-4471-B6E9-CBBDDBEC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AD78-9223-4D75-BFD6-FCC184F3E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Lucida Sans Unicode"/>
              </a:rPr>
              <a:t>Funny (Irregular)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en! This is a funny word. We sound it ou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n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way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ay it fast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iffer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y turn to sound it 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n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way. (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t's how w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ound o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he word,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here's how w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a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he word.   (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our turn to sound it 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n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w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t Ready ...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ig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gain, sound it 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n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t ready…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ig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at's how w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ound o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he word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how do w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a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he word?  Get ready…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ig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es,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81280" y="228600"/>
            <a:ext cx="2743200" cy="62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Lucida Sans Unicode"/>
              </a:rPr>
              <a:t>Sound Combinations:  AR, AL, 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Underline the sound comb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and point under the sound combi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When these letters are together they say 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What do these letters say?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(Pa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et ready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Signal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by tapping under the 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Yes, 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Return to the Get Ready B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ound it out and remember to say 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(Pause three seco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et ready ...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Signal by looping under each sound and to the middle of the __ Return to the Get Ready B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gain, sound it out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(Pa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et read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(Sig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What word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(Pa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et ready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(Sig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Yes, 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562720" y="6066000"/>
            <a:ext cx="342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AR Introduced in RMSE K Lesson 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IR Introduced in RMSE K Lesson 1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AL Introduced in RMSE K Lesson 1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Slide27ar"/>
          <p:cNvPicPr/>
          <p:nvPr/>
        </p:nvPicPr>
        <p:blipFill>
          <a:blip r:embed="rId1"/>
          <a:stretch/>
        </p:blipFill>
        <p:spPr>
          <a:xfrm>
            <a:off x="1295280" y="1066680"/>
            <a:ext cx="2052720" cy="3200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Slide27ir"/>
          <p:cNvPicPr/>
          <p:nvPr/>
        </p:nvPicPr>
        <p:blipFill>
          <a:blip r:embed="rId2"/>
          <a:stretch/>
        </p:blipFill>
        <p:spPr>
          <a:xfrm>
            <a:off x="6400800" y="0"/>
            <a:ext cx="2428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23:46:32Z</dcterms:created>
  <dc:creator>Brown</dc:creator>
  <dc:description/>
  <dc:language>en-US</dc:language>
  <cp:lastModifiedBy>Shari Lovitt</cp:lastModifiedBy>
  <dcterms:modified xsi:type="dcterms:W3CDTF">2010-08-17T13:38:56Z</dcterms:modified>
  <cp:revision>3</cp:revision>
  <dc:subject/>
  <dc:title>Funny (Irregular) Words</dc:title>
</cp:coreProperties>
</file>